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A08-6451-433F-8288-9A4A6D17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C2C-178C-4868-97F3-DCF94919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EC2-6CDA-4665-AC57-54F8932E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0F4-0041-46D6-859E-BD5C9D99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BE1-EFAC-45A8-A6BD-5D7BF75D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C5A-ADF4-4AB1-8EEB-10B4FE9A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EDA-8C26-4369-810A-2FC8D26A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635-3626-4FBC-8754-6A470901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6C0-459A-4374-AB13-6CF33670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5EA-2517-4E3C-AFA6-E70C6DA4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B41-3DC0-4BD6-AE70-AC16DB43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40B-543E-40A6-A367-B9D9EF22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496C-C5E7-447F-B489-B35EF46FB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deitel.com/" TargetMode="External"/><Relationship Id="rId2" Type="http://schemas.openxmlformats.org/officeDocument/2006/relationships/hyperlink" Target="http://www.prenhall.com/deitel" TargetMode="External"/><Relationship Id="rId3" Type="http://schemas.openxmlformats.org/officeDocument/2006/relationships/hyperlink" Target="http://www.softlord.com/comp" TargetMode="External"/><Relationship Id="rId4" Type="http://schemas.openxmlformats.org/officeDocument/2006/relationships/hyperlink" Target="http://www.elsop.com/wrc/h_comput.htm" TargetMode="External"/><Relationship Id="rId5" Type="http://schemas.openxmlformats.org/officeDocument/2006/relationships/hyperlink" Target="http://www.w3.org/History.html" TargetMode="External"/><Relationship Id="rId6" Type="http://schemas.openxmlformats.org/officeDocument/2006/relationships/hyperlink" Target="http://www.netvalley.com/intval.html" TargetMode="External"/><Relationship Id="rId7" Type="http://schemas.openxmlformats.org/officeDocument/2006/relationships/hyperlink" Target="http://www.ansi.org/" TargetMode="External"/><Relationship Id="rId8" Type="http://schemas.openxmlformats.org/officeDocument/2006/relationships/hyperlink" Target="http://www.cuj.com/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torial 1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ess the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ication: Introducing Computers, the Internet and C++ Programming</a:t>
            </a:r>
            <a:endParaRPr b="0" lang="en-US" sz="24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75248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hat Is a Computer?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mputer Organiz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he Internet and the World Wide Web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Machine Languages, Assembly Languages and High-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Level Languag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++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Java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ortran, COBOL, Pascal and Ada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8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BASIC, Visual Basic, Visual C++ and .NE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9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Key Software Trend: Object Technology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10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mpiling and Running C++ Application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ues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Numbe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1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ernet and Web Resourc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1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Java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by Sun Micro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intelligent consumer-electronic de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ined popularity with the World Wid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dynamic content and animation on Web P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used for large scale enterprise applications development, enhances functionality of Web servers, provide applications for consumer devices and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used object-orient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ortran, COBOL, Pascal and Ada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 (FORmula TRANsl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ed by I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ill used in engineering commun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ill used in business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for teaching structur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ortran, COBOL, Pascal and Ada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onsored by the Department of Defe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d after Lady Ada Lovel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mputer progra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BASIC, Visual Basic, Visual C++ and .NE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ner’s All-Purpose Symbolic Instruction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imple programs and teaching no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ified development of Windows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B.NET, Visual C++ .NET and 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mework Class Library (FC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for Microsoft’s .NET plat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oriented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ual C++ .NET is derived from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9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Key Software Trend: Object Technology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 real-world nou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(propert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ons (behaviors or func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l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cus on actions instead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0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iling and Running C++ Applica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rce code fil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p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fil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able fil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ex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urns high-level source code into machine language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pro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text instructions to be given to the compu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0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iling and Running C++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3" name=""/>
          <p:cNvSpPr/>
          <p:nvPr/>
        </p:nvSpPr>
        <p:spPr>
          <a:xfrm>
            <a:off x="413640" y="1447920"/>
            <a:ext cx="55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and Prom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in Windows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76024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304920" y="4190760"/>
            <a:ext cx="1828800" cy="1114200"/>
            <a:chOff x="304920" y="4190760"/>
            <a:chExt cx="1828800" cy="1114200"/>
          </a:xfrm>
        </p:grpSpPr>
        <p:sp>
          <p:nvSpPr>
            <p:cNvPr id="76" name=""/>
            <p:cNvSpPr/>
            <p:nvPr/>
          </p:nvSpPr>
          <p:spPr>
            <a:xfrm>
              <a:off x="304920" y="47242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ning directory for Windows 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04920" y="419076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0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iling and Running C++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7602480" cy="1152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12920" y="1447920"/>
            <a:ext cx="536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and Prom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in Windows X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920" y="4190760"/>
            <a:ext cx="1828800" cy="1114200"/>
            <a:chOff x="304920" y="4190760"/>
            <a:chExt cx="1828800" cy="1114200"/>
          </a:xfrm>
        </p:grpSpPr>
        <p:sp>
          <p:nvSpPr>
            <p:cNvPr id="82" name=""/>
            <p:cNvSpPr/>
            <p:nvPr/>
          </p:nvSpPr>
          <p:spPr>
            <a:xfrm>
              <a:off x="304920" y="47242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ning directory for Windows 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4920" y="419076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 Pro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rt &gt; All Programs &gt; Accessories &gt; Command Prom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dir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d C:\Examples\Tutorial01\CarPay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d C:\Examples\Tutorial01\Guess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an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Pay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uess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4360" y="1447920"/>
            <a:ext cx="72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ing 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’s directo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33360" y="4191120"/>
            <a:ext cx="2133720" cy="1342440"/>
            <a:chOff x="2133360" y="4191120"/>
            <a:chExt cx="2133720" cy="1342440"/>
          </a:xfrm>
        </p:grpSpPr>
        <p:sp>
          <p:nvSpPr>
            <p:cNvPr id="90" name=""/>
            <p:cNvSpPr/>
            <p:nvPr/>
          </p:nvSpPr>
          <p:spPr>
            <a:xfrm>
              <a:off x="2362320" y="4952880"/>
              <a:ext cx="1904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the current directory chang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2133360" y="419112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y the characteristics of low-level and high-level programming languag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y the basics of object-oriented programm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your first C++ appl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dditional C++ information using the Inter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3640" y="1447920"/>
            <a:ext cx="59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43000" y="4190760"/>
            <a:ext cx="3429000" cy="1571400"/>
            <a:chOff x="1143000" y="4190760"/>
            <a:chExt cx="3429000" cy="1571400"/>
          </a:xfrm>
        </p:grpSpPr>
        <p:sp>
          <p:nvSpPr>
            <p:cNvPr id="96" name=""/>
            <p:cNvSpPr/>
            <p:nvPr/>
          </p:nvSpPr>
          <p:spPr>
            <a:xfrm>
              <a:off x="1143000" y="518148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ecu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rPay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200400" y="4190760"/>
              <a:ext cx="1371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6520" y="1447920"/>
            <a:ext cx="53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data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6880" y="2652840"/>
            <a:ext cx="5610240" cy="2419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09320" y="1447920"/>
            <a:ext cx="73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displaying calculation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9480" y="4648320"/>
            <a:ext cx="1905120" cy="1418760"/>
            <a:chOff x="609480" y="4648320"/>
            <a:chExt cx="1905120" cy="1418760"/>
          </a:xfrm>
        </p:grpSpPr>
        <p:sp>
          <p:nvSpPr>
            <p:cNvPr id="105" name=""/>
            <p:cNvSpPr/>
            <p:nvPr/>
          </p:nvSpPr>
          <p:spPr>
            <a:xfrm>
              <a:off x="609480" y="548640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ults displayed in tabular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523880" y="4648320"/>
              <a:ext cx="83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391520" y="2209680"/>
            <a:ext cx="1523880" cy="533520"/>
            <a:chOff x="7391520" y="2209680"/>
            <a:chExt cx="1523880" cy="533520"/>
          </a:xfrm>
        </p:grpSpPr>
        <p:sp>
          <p:nvSpPr>
            <p:cNvPr id="108" name=""/>
            <p:cNvSpPr/>
            <p:nvPr/>
          </p:nvSpPr>
          <p:spPr>
            <a:xfrm>
              <a:off x="7848720" y="2209680"/>
              <a:ext cx="1066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ose 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391520" y="2362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4720" y="1447920"/>
            <a:ext cx="68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ing 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ess the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’s directo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133360" y="4191120"/>
            <a:ext cx="2133720" cy="1342440"/>
            <a:chOff x="2133360" y="4191120"/>
            <a:chExt cx="2133720" cy="1342440"/>
          </a:xfrm>
        </p:grpSpPr>
        <p:sp>
          <p:nvSpPr>
            <p:cNvPr id="114" name=""/>
            <p:cNvSpPr/>
            <p:nvPr/>
          </p:nvSpPr>
          <p:spPr>
            <a:xfrm>
              <a:off x="2362320" y="4952880"/>
              <a:ext cx="1904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the current directory chang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133360" y="419112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13640" y="1447920"/>
            <a:ext cx="54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ess the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43000" y="4190760"/>
            <a:ext cx="3429000" cy="1571400"/>
            <a:chOff x="1143000" y="4190760"/>
            <a:chExt cx="3429000" cy="1571400"/>
          </a:xfrm>
        </p:grpSpPr>
        <p:sp>
          <p:nvSpPr>
            <p:cNvPr id="120" name=""/>
            <p:cNvSpPr/>
            <p:nvPr/>
          </p:nvSpPr>
          <p:spPr>
            <a:xfrm>
              <a:off x="1143000" y="51814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ecu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uess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200400" y="4190760"/>
              <a:ext cx="1371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0040" y="1447920"/>
            <a:ext cx="36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n initial gu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6880" y="299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11120" y="1447920"/>
            <a:ext cx="59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 second guess and receiving feedb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590560" y="4114440"/>
            <a:ext cx="5562720" cy="1419120"/>
            <a:chOff x="2590560" y="4114440"/>
            <a:chExt cx="5562720" cy="1419120"/>
          </a:xfrm>
        </p:grpSpPr>
        <p:sp>
          <p:nvSpPr>
            <p:cNvPr id="129" name=""/>
            <p:cNvSpPr/>
            <p:nvPr/>
          </p:nvSpPr>
          <p:spPr>
            <a:xfrm>
              <a:off x="5105520" y="495288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 displays whether your guess is too high or too 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666880" y="4571640"/>
              <a:ext cx="2438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590560" y="4114440"/>
              <a:ext cx="2514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6880" y="2709720"/>
            <a:ext cx="5610240" cy="2305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4720" y="1447920"/>
            <a:ext cx="41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essing the correct 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8120" y="2209680"/>
            <a:ext cx="5562360" cy="2286000"/>
            <a:chOff x="3048120" y="2209680"/>
            <a:chExt cx="5562360" cy="2286000"/>
          </a:xfrm>
        </p:grpSpPr>
        <p:sp>
          <p:nvSpPr>
            <p:cNvPr id="136" name=""/>
            <p:cNvSpPr/>
            <p:nvPr/>
          </p:nvSpPr>
          <p:spPr>
            <a:xfrm>
              <a:off x="6172200" y="22096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ering additional gu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48120" y="2362320"/>
              <a:ext cx="3124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48120" y="2362320"/>
              <a:ext cx="3124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48120" y="2362320"/>
              <a:ext cx="31240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48120" y="2362320"/>
              <a:ext cx="312408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14600" y="4800600"/>
            <a:ext cx="4572000" cy="718200"/>
            <a:chOff x="2514600" y="4800600"/>
            <a:chExt cx="4572000" cy="718200"/>
          </a:xfrm>
        </p:grpSpPr>
        <p:sp>
          <p:nvSpPr>
            <p:cNvPr id="142" name=""/>
            <p:cNvSpPr/>
            <p:nvPr/>
          </p:nvSpPr>
          <p:spPr>
            <a:xfrm>
              <a:off x="4724280" y="51814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ering the correct gu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514600" y="4800600"/>
              <a:ext cx="2209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ernet and Web Resourc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deite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prenhall.com/dei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softlord.com/co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elsop.com/wrc/h_comput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w3.org/History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netvalley.com/intval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ansi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cuj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What Is a Computer?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arithmetic calculations much faster than people c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programs and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s for a computer’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known as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devices (also known as hardwar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include keyboard, screen, mouse, hard drive, memory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uter Organiz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units in a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various input devices such as keyboard or m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computer-processed information on output devices (making it available for use outside of the compu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or Primary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volatile (data is lost after computer shuts o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uter Organiz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Logic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determines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sees all computer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volat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a is retained after computer shuts o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he Internet And the World Wide Web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up by the Advanced Research Projects Agency to network university research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d quick and easy communication via e-m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mission Control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for transferring data over the ARP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d that “packets” of information were sent and received cor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et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for intercommunication between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he Internet And the World Wide Web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rdware and software associated with Internet com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perText Markup Language (HTM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s format developed by Tim Berners-L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ld Wide Web Consortium (W3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ed by Berners-Lee to develop Internet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Machine Languages, Assembly Languages and High-Level Languag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dependent “natural languag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mbly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 is too sl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ers convert assembly languages to machine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Level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s convert to machine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ers package machine language fi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preters run high-level programs direc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ructions look like everyday Engli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++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olved fro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evolved from B and BCP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Bjarne Stroustrup in early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used for oper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ly used to create UN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oriented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8:57:24Z</dcterms:created>
  <dc:creator>Jeffrey Peng</dc:creator>
  <dc:description/>
  <dc:language>en-US</dc:language>
  <cp:lastModifiedBy>Pearson Education</cp:lastModifiedBy>
  <dcterms:modified xsi:type="dcterms:W3CDTF">2004-10-11T14:09:57Z</dcterms:modified>
  <cp:revision>84</cp:revision>
  <dc:subject/>
  <dc:title>Slide 1</dc:title>
</cp:coreProperties>
</file>